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EB9-464C-43E6-B4A9-805495AB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15C-0A63-4364-BEB9-960DCDF2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ED7-1442-47A3-B3EA-B9A3841E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DC5-7015-4C9B-A37C-1A684A7D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CDF-0712-408D-AD67-F98CB716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BD7-D44C-4D47-84AE-6E41D672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5EA-3270-4249-9BD5-4ED5EEDE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F3C-E9B0-4D41-95D9-ED5B6EC4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01F-B808-4959-A053-A0DF7287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A2E-C7E7-488F-866A-7386901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FEA-E76F-41D3-81D4-3BB73DA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D0F-7345-43FB-9156-2225B685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GB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281FD08-C9B2-43CF-AC6B-D81456520FA0}" type="slidenum">
              <a:rPr b="0" lang="en-GB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arlyyears@Aberdeenshire.gov.uk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2"/>
          <p:cNvSpPr/>
          <p:nvPr/>
        </p:nvSpPr>
        <p:spPr>
          <a:xfrm>
            <a:off x="1309680" y="185760"/>
            <a:ext cx="3720960" cy="525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cument 5 - TIMELI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missions process timescale for August 2018 – April 201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 rot="5400000">
            <a:off x="917280" y="583920"/>
            <a:ext cx="663480" cy="879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Jan 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 rot="5400000">
            <a:off x="917640" y="1066680"/>
            <a:ext cx="650880" cy="889200"/>
          </a:xfrm>
          <a:custGeom>
            <a:avLst/>
            <a:gdLst>
              <a:gd name="textAreaLeft" fmla="*/ 0 w 650880"/>
              <a:gd name="textAreaRight" fmla="*/ 651240 w 6508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eb 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 rot="5400000">
            <a:off x="917640" y="1535040"/>
            <a:ext cx="650880" cy="889200"/>
          </a:xfrm>
          <a:custGeom>
            <a:avLst/>
            <a:gdLst>
              <a:gd name="textAreaLeft" fmla="*/ 0 w 650880"/>
              <a:gd name="textAreaRight" fmla="*/ 651240 w 6508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ch 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 rot="5400000">
            <a:off x="917640" y="1977840"/>
            <a:ext cx="650880" cy="889200"/>
          </a:xfrm>
          <a:custGeom>
            <a:avLst/>
            <a:gdLst>
              <a:gd name="textAreaLeft" fmla="*/ 0 w 650880"/>
              <a:gd name="textAreaRight" fmla="*/ 651240 w 6508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2nd Jan–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Feb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 rot="5400000">
            <a:off x="914400" y="3441600"/>
            <a:ext cx="650880" cy="889200"/>
          </a:xfrm>
          <a:custGeom>
            <a:avLst/>
            <a:gdLst>
              <a:gd name="textAreaLeft" fmla="*/ 0 w 650880"/>
              <a:gd name="textAreaRight" fmla="*/ 651240 w 6508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ch 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"/>
          <p:cNvSpPr/>
          <p:nvPr/>
        </p:nvSpPr>
        <p:spPr>
          <a:xfrm rot="5400000">
            <a:off x="915480" y="4946400"/>
            <a:ext cx="650880" cy="888840"/>
          </a:xfrm>
          <a:custGeom>
            <a:avLst/>
            <a:gdLst>
              <a:gd name="textAreaLeft" fmla="*/ 0 w 650880"/>
              <a:gd name="textAreaRight" fmla="*/ 651240 w 65088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- 9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rch  2018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5"/>
          <p:cNvSpPr/>
          <p:nvPr/>
        </p:nvSpPr>
        <p:spPr>
          <a:xfrm rot="5400000">
            <a:off x="912960" y="5434560"/>
            <a:ext cx="650880" cy="893880"/>
          </a:xfrm>
          <a:custGeom>
            <a:avLst/>
            <a:gdLst>
              <a:gd name="textAreaLeft" fmla="*/ 0 w 650880"/>
              <a:gd name="textAreaRight" fmla="*/ 651240 w 65088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ch 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0"/>
          <p:cNvSpPr/>
          <p:nvPr/>
        </p:nvSpPr>
        <p:spPr>
          <a:xfrm rot="5400000">
            <a:off x="909360" y="4451040"/>
            <a:ext cx="660600" cy="889200"/>
          </a:xfrm>
          <a:custGeom>
            <a:avLst/>
            <a:gdLst>
              <a:gd name="textAreaLeft" fmla="*/ 0 w 660600"/>
              <a:gd name="textAreaRight" fmla="*/ 660960 w 66060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y 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7"/>
          <p:cNvSpPr/>
          <p:nvPr/>
        </p:nvSpPr>
        <p:spPr>
          <a:xfrm>
            <a:off x="2127240" y="746280"/>
            <a:ext cx="3755880" cy="279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missions period ope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8"/>
          <p:cNvSpPr/>
          <p:nvPr/>
        </p:nvSpPr>
        <p:spPr>
          <a:xfrm>
            <a:off x="1714680" y="90504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9"/>
          <p:cNvSpPr/>
          <p:nvPr/>
        </p:nvSpPr>
        <p:spPr>
          <a:xfrm>
            <a:off x="2155680" y="1144440"/>
            <a:ext cx="3745080" cy="406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dmissions period clos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0"/>
          <p:cNvSpPr/>
          <p:nvPr/>
        </p:nvSpPr>
        <p:spPr>
          <a:xfrm>
            <a:off x="2184480" y="1744560"/>
            <a:ext cx="3709800" cy="362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 fontScale="94000"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port submitted to Nursery Sufficiency Group highlighting potential hotspots (where demand for LA places outstrips supply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1"/>
          <p:cNvSpPr/>
          <p:nvPr/>
        </p:nvSpPr>
        <p:spPr>
          <a:xfrm>
            <a:off x="1695600" y="1407960"/>
            <a:ext cx="44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2"/>
          <p:cNvSpPr/>
          <p:nvPr/>
        </p:nvSpPr>
        <p:spPr>
          <a:xfrm>
            <a:off x="2171880" y="3236760"/>
            <a:ext cx="3740040" cy="37152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layed Entry and ASN decisions forwarded to parents from receiving school by first class recorded delivery or by email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3"/>
          <p:cNvSpPr/>
          <p:nvPr/>
        </p:nvSpPr>
        <p:spPr>
          <a:xfrm>
            <a:off x="1716120" y="1913040"/>
            <a:ext cx="44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4"/>
          <p:cNvSpPr/>
          <p:nvPr/>
        </p:nvSpPr>
        <p:spPr>
          <a:xfrm>
            <a:off x="2171880" y="2141640"/>
            <a:ext cx="3740040" cy="5680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orting Information relating to Priority 2 and 3  status applications  forwarded to QIM(Early Years), </a:t>
            </a:r>
            <a:r>
              <a:rPr b="0" lang="en-GB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arlyyears@Aberdeenshire.gov.uk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by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Feb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5"/>
          <p:cNvSpPr/>
          <p:nvPr/>
        </p:nvSpPr>
        <p:spPr>
          <a:xfrm>
            <a:off x="1695600" y="2465280"/>
            <a:ext cx="44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6"/>
          <p:cNvSpPr/>
          <p:nvPr/>
        </p:nvSpPr>
        <p:spPr>
          <a:xfrm>
            <a:off x="2179800" y="2709720"/>
            <a:ext cx="3720960" cy="51444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arly Years Delayed Entry/Additional Support Needs centrally arranged panel meet to agree deferral requests and Priority 2 and 3 stat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7"/>
          <p:cNvSpPr/>
          <p:nvPr/>
        </p:nvSpPr>
        <p:spPr>
          <a:xfrm>
            <a:off x="1706400" y="2836800"/>
            <a:ext cx="443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8"/>
          <p:cNvSpPr/>
          <p:nvPr/>
        </p:nvSpPr>
        <p:spPr>
          <a:xfrm>
            <a:off x="1704960" y="3333600"/>
            <a:ext cx="45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9"/>
          <p:cNvSpPr/>
          <p:nvPr/>
        </p:nvSpPr>
        <p:spPr>
          <a:xfrm>
            <a:off x="2182680" y="3708360"/>
            <a:ext cx="3729240" cy="39204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adline for Parental Appeals to Delayed Entry and ASN decisions made by local panel.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0"/>
          <p:cNvSpPr/>
          <p:nvPr/>
        </p:nvSpPr>
        <p:spPr>
          <a:xfrm>
            <a:off x="2192400" y="4172040"/>
            <a:ext cx="3708360" cy="353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arly Years Delayed Entry and ASN Appeals panel mee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1"/>
          <p:cNvSpPr/>
          <p:nvPr/>
        </p:nvSpPr>
        <p:spPr>
          <a:xfrm>
            <a:off x="1700280" y="3835440"/>
            <a:ext cx="44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2"/>
          <p:cNvSpPr/>
          <p:nvPr/>
        </p:nvSpPr>
        <p:spPr>
          <a:xfrm>
            <a:off x="1716120" y="4346640"/>
            <a:ext cx="44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3"/>
          <p:cNvSpPr/>
          <p:nvPr/>
        </p:nvSpPr>
        <p:spPr>
          <a:xfrm>
            <a:off x="2211480" y="4597560"/>
            <a:ext cx="3689280" cy="43020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 fontScale="93000"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ppeals decisions notified to parents by email or first class recorded delivery and to schools and Early Years Education Support Offic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4"/>
          <p:cNvSpPr/>
          <p:nvPr/>
        </p:nvSpPr>
        <p:spPr>
          <a:xfrm>
            <a:off x="2179800" y="5200560"/>
            <a:ext cx="3720960" cy="417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 fontScale="84000"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ocal admissions panels meet to allocate </a:t>
            </a: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August 2018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starts. </a:t>
            </a: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NB – settings must reserve places  for those children who are awaiting the decision of the Delayed Entr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5"/>
          <p:cNvSpPr/>
          <p:nvPr/>
        </p:nvSpPr>
        <p:spPr>
          <a:xfrm>
            <a:off x="2158920" y="5648400"/>
            <a:ext cx="3753000" cy="399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ursery place offer letters for August 2018 sent by second class post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6"/>
          <p:cNvSpPr/>
          <p:nvPr/>
        </p:nvSpPr>
        <p:spPr>
          <a:xfrm>
            <a:off x="2138400" y="7148520"/>
            <a:ext cx="3755880" cy="3538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ocal Admissions Panels meet to allocate January 2019 starts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7"/>
          <p:cNvSpPr/>
          <p:nvPr/>
        </p:nvSpPr>
        <p:spPr>
          <a:xfrm>
            <a:off x="1714680" y="4813200"/>
            <a:ext cx="448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8"/>
          <p:cNvSpPr/>
          <p:nvPr/>
        </p:nvSpPr>
        <p:spPr>
          <a:xfrm>
            <a:off x="1704960" y="5392800"/>
            <a:ext cx="43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9"/>
          <p:cNvSpPr/>
          <p:nvPr/>
        </p:nvSpPr>
        <p:spPr>
          <a:xfrm>
            <a:off x="1690560" y="585612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0"/>
          <p:cNvSpPr/>
          <p:nvPr/>
        </p:nvSpPr>
        <p:spPr>
          <a:xfrm flipH="1">
            <a:off x="1680840" y="832176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4"/>
          <p:cNvSpPr/>
          <p:nvPr/>
        </p:nvSpPr>
        <p:spPr>
          <a:xfrm rot="5400000">
            <a:off x="907560" y="5927760"/>
            <a:ext cx="660600" cy="895320"/>
          </a:xfrm>
          <a:custGeom>
            <a:avLst/>
            <a:gdLst>
              <a:gd name="textAreaLeft" fmla="*/ 0 w 660600"/>
              <a:gd name="textAreaRight" fmla="*/ 660960 w 660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th April 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5"/>
          <p:cNvSpPr/>
          <p:nvPr/>
        </p:nvSpPr>
        <p:spPr>
          <a:xfrm>
            <a:off x="2158920" y="6132600"/>
            <a:ext cx="3756240" cy="439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adline for parental response to offer of place for August start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6"/>
          <p:cNvSpPr/>
          <p:nvPr/>
        </p:nvSpPr>
        <p:spPr>
          <a:xfrm>
            <a:off x="1701720" y="634356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7"/>
          <p:cNvSpPr/>
          <p:nvPr/>
        </p:nvSpPr>
        <p:spPr>
          <a:xfrm rot="5400000">
            <a:off x="911880" y="6896880"/>
            <a:ext cx="650880" cy="890640"/>
          </a:xfrm>
          <a:custGeom>
            <a:avLst/>
            <a:gdLst>
              <a:gd name="textAreaLeft" fmla="*/ 0 w 650880"/>
              <a:gd name="textAreaRight" fmla="*/ 651240 w 6508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-2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ptember 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8"/>
          <p:cNvSpPr/>
          <p:nvPr/>
        </p:nvSpPr>
        <p:spPr>
          <a:xfrm>
            <a:off x="2144880" y="7607160"/>
            <a:ext cx="3755880" cy="4017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tters offering January 2019 entry Early Learning and Childcare places sent to parents/carers by second class pos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9"/>
          <p:cNvSpPr/>
          <p:nvPr/>
        </p:nvSpPr>
        <p:spPr>
          <a:xfrm>
            <a:off x="1685880" y="684216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0"/>
          <p:cNvSpPr/>
          <p:nvPr/>
        </p:nvSpPr>
        <p:spPr>
          <a:xfrm rot="5400000">
            <a:off x="891000" y="7382520"/>
            <a:ext cx="690840" cy="892080"/>
          </a:xfrm>
          <a:custGeom>
            <a:avLst/>
            <a:gdLst>
              <a:gd name="textAreaLeft" fmla="*/ 0 w 690840"/>
              <a:gd name="textAreaRight" fmla="*/ 691200 w 69084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1"/>
          <p:cNvSpPr/>
          <p:nvPr/>
        </p:nvSpPr>
        <p:spPr>
          <a:xfrm>
            <a:off x="2125800" y="8093160"/>
            <a:ext cx="3755880" cy="458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adline for parental response to offer of January 2019 plac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2"/>
          <p:cNvSpPr/>
          <p:nvPr/>
        </p:nvSpPr>
        <p:spPr>
          <a:xfrm>
            <a:off x="1714680" y="7842240"/>
            <a:ext cx="42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5"/>
          <p:cNvSpPr/>
          <p:nvPr/>
        </p:nvSpPr>
        <p:spPr>
          <a:xfrm rot="5400000">
            <a:off x="895320" y="3941640"/>
            <a:ext cx="689040" cy="889200"/>
          </a:xfrm>
          <a:custGeom>
            <a:avLst/>
            <a:gdLst>
              <a:gd name="textAreaLeft" fmla="*/ 0 w 689040"/>
              <a:gd name="textAreaRight" fmla="*/ 689400 w 68904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pril 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6"/>
          <p:cNvSpPr/>
          <p:nvPr/>
        </p:nvSpPr>
        <p:spPr>
          <a:xfrm rot="5400000">
            <a:off x="917640" y="2471760"/>
            <a:ext cx="650880" cy="889200"/>
          </a:xfrm>
          <a:custGeom>
            <a:avLst/>
            <a:gdLst>
              <a:gd name="textAreaLeft" fmla="*/ 0 w 650880"/>
              <a:gd name="textAreaRight" fmla="*/ 651240 w 6508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&amp; 23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eb 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7"/>
          <p:cNvSpPr/>
          <p:nvPr/>
        </p:nvSpPr>
        <p:spPr>
          <a:xfrm rot="5400000">
            <a:off x="914400" y="2957400"/>
            <a:ext cx="650880" cy="889200"/>
          </a:xfrm>
          <a:custGeom>
            <a:avLst/>
            <a:gdLst>
              <a:gd name="textAreaLeft" fmla="*/ 0 w 650880"/>
              <a:gd name="textAreaRight" fmla="*/ 651240 w 6508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rch 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0"/>
          <p:cNvSpPr/>
          <p:nvPr/>
        </p:nvSpPr>
        <p:spPr>
          <a:xfrm>
            <a:off x="1495440" y="129528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2"/>
          <p:cNvSpPr/>
          <p:nvPr/>
        </p:nvSpPr>
        <p:spPr>
          <a:xfrm rot="5400000">
            <a:off x="891360" y="7903440"/>
            <a:ext cx="690480" cy="892080"/>
          </a:xfrm>
          <a:custGeom>
            <a:avLst/>
            <a:gdLst>
              <a:gd name="textAreaLeft" fmla="*/ 0 w 690480"/>
              <a:gd name="textAreaRight" fmla="*/ 690840 w 69048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2"/>
          <p:cNvSpPr/>
          <p:nvPr/>
        </p:nvSpPr>
        <p:spPr>
          <a:xfrm>
            <a:off x="2141640" y="8613720"/>
            <a:ext cx="3755880" cy="459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EL&amp;C admissions spreadsheet to be sent to the Development work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3"/>
          <p:cNvSpPr/>
          <p:nvPr/>
        </p:nvSpPr>
        <p:spPr>
          <a:xfrm rot="5400000">
            <a:off x="891360" y="8335080"/>
            <a:ext cx="690480" cy="898560"/>
          </a:xfrm>
          <a:custGeom>
            <a:avLst/>
            <a:gdLst>
              <a:gd name="textAreaLeft" fmla="*/ 0 w 690480"/>
              <a:gd name="textAreaRight" fmla="*/ 690840 w 69048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vember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4"/>
          <p:cNvSpPr/>
          <p:nvPr/>
        </p:nvSpPr>
        <p:spPr>
          <a:xfrm flipH="1">
            <a:off x="1677600" y="877572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6"/>
          <p:cNvSpPr/>
          <p:nvPr/>
        </p:nvSpPr>
        <p:spPr>
          <a:xfrm>
            <a:off x="2155680" y="6672240"/>
            <a:ext cx="3756240" cy="420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L&amp;C Admissions spreadsheet to be forwarded to Development Work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7"/>
          <p:cNvSpPr/>
          <p:nvPr/>
        </p:nvSpPr>
        <p:spPr>
          <a:xfrm rot="5400000">
            <a:off x="907560" y="6429240"/>
            <a:ext cx="660240" cy="895320"/>
          </a:xfrm>
          <a:custGeom>
            <a:avLst/>
            <a:gdLst>
              <a:gd name="textAreaLeft" fmla="*/ 0 w 660240"/>
              <a:gd name="textAreaRight" fmla="*/ 660240 w 66024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May 2018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8"/>
          <p:cNvSpPr/>
          <p:nvPr/>
        </p:nvSpPr>
        <p:spPr>
          <a:xfrm>
            <a:off x="1701720" y="734364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5"/>
          <p:cNvSpPr/>
          <p:nvPr/>
        </p:nvSpPr>
        <p:spPr>
          <a:xfrm>
            <a:off x="1592280" y="9155160"/>
            <a:ext cx="3720960" cy="525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cument 5  - continued overlea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missions process timescale for August 2018 – April 201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61"/>
          <p:cNvSpPr/>
          <p:nvPr/>
        </p:nvSpPr>
        <p:spPr>
          <a:xfrm rot="16200000">
            <a:off x="832680" y="2124720"/>
            <a:ext cx="887400" cy="888840"/>
          </a:xfrm>
          <a:custGeom>
            <a:avLst/>
            <a:gdLst>
              <a:gd name="textAreaLeft" fmla="*/ 0 w 887400"/>
              <a:gd name="textAreaRight" fmla="*/ 887760 w 88740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Januar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09680" y="185760"/>
            <a:ext cx="3720960" cy="525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cument 5  -   PROPOSED TIMESCAL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missions process timescale for August 2018 – April 201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5400000">
            <a:off x="950400" y="1720800"/>
            <a:ext cx="650880" cy="888840"/>
          </a:xfrm>
          <a:custGeom>
            <a:avLst/>
            <a:gdLst>
              <a:gd name="textAreaLeft" fmla="*/ 0 w 650880"/>
              <a:gd name="textAreaRight" fmla="*/ 651240 w 65088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January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2170080" y="1984320"/>
            <a:ext cx="3755880" cy="406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adline for parental response to offer of April 2019 plac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2205000" y="2603520"/>
            <a:ext cx="3756240" cy="399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marL="343080" indent="-343080"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Updated ELC Admissions spreadsheet sent to Development  Work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1720800" y="2166840"/>
            <a:ext cx="44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1738440" y="2797200"/>
            <a:ext cx="44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>
            <a:off x="1495440" y="129528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8"/>
          <p:cNvSpPr/>
          <p:nvPr/>
        </p:nvSpPr>
        <p:spPr>
          <a:xfrm>
            <a:off x="2170080" y="1401840"/>
            <a:ext cx="3755880" cy="487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tters offering April 2019 entry Early Learning and Childcare places  sent to parents/carers by second class post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9"/>
          <p:cNvSpPr/>
          <p:nvPr/>
        </p:nvSpPr>
        <p:spPr>
          <a:xfrm rot="5400000">
            <a:off x="945000" y="1245600"/>
            <a:ext cx="662040" cy="888840"/>
          </a:xfrm>
          <a:custGeom>
            <a:avLst/>
            <a:gdLst>
              <a:gd name="textAreaLeft" fmla="*/ 0 w 662040"/>
              <a:gd name="textAreaRight" fmla="*/ 662400 w 66204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7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December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0"/>
          <p:cNvSpPr/>
          <p:nvPr/>
        </p:nvSpPr>
        <p:spPr>
          <a:xfrm>
            <a:off x="1711440" y="1671480"/>
            <a:ext cx="44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9"/>
          <p:cNvSpPr/>
          <p:nvPr/>
        </p:nvSpPr>
        <p:spPr>
          <a:xfrm rot="5400000">
            <a:off x="945000" y="753480"/>
            <a:ext cx="662040" cy="888840"/>
          </a:xfrm>
          <a:custGeom>
            <a:avLst/>
            <a:gdLst>
              <a:gd name="textAreaLeft" fmla="*/ 0 w 662040"/>
              <a:gd name="textAreaRight" fmla="*/ 662400 w 66204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 anchorCtr="1" vert="eaVert" rot="10800000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Nov – 30th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v 20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8"/>
          <p:cNvSpPr/>
          <p:nvPr/>
        </p:nvSpPr>
        <p:spPr>
          <a:xfrm>
            <a:off x="2170080" y="839880"/>
            <a:ext cx="3755880" cy="487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 anchorCtr="1">
            <a:norm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ocal admissions panels meet to allocate </a:t>
            </a: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April  2019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star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0"/>
          <p:cNvSpPr/>
          <p:nvPr/>
        </p:nvSpPr>
        <p:spPr>
          <a:xfrm>
            <a:off x="1720800" y="1157400"/>
            <a:ext cx="44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14:42:43Z</dcterms:created>
  <dc:creator>Any Authorised User</dc:creator>
  <dc:description/>
  <dc:language>en-US</dc:language>
  <cp:lastModifiedBy>Natalie Stewart</cp:lastModifiedBy>
  <cp:lastPrinted>2017-12-12T09:09:46Z</cp:lastPrinted>
  <dcterms:modified xsi:type="dcterms:W3CDTF">2017-12-12T09:17:32Z</dcterms:modified>
  <cp:revision>153</cp:revision>
  <dc:subject/>
  <dc:title>Slide 1</dc:title>
</cp:coreProperties>
</file>